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391-F053-4EC1-9FF7-18707F81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193-46E8-4306-A9F8-0E2F3C8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0C39C-8E1D-45ED-A527-65D8F82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82A09-CA4B-449C-BCE8-17B7BC01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44C5-6C6C-411E-B985-4B4BE42A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171E1-E80D-44CA-B24B-C8955B52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EE2AD-B865-42F7-8F14-7759DCE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DCE3F-7F65-41C3-957E-5D2BADC4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4EB3B-F6AC-4258-997C-290390B1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E79A5-F7B9-4240-92B7-029D18D9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06966-4F1F-47FB-9466-7605E56B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360B7-8BD0-4D63-9C2F-8C121F51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048-D2CF-49DB-A5BC-1673E41B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56140-6802-4BAB-B846-9EEFB44A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9B724-A76A-4A1F-9A1B-B1C726C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FF71A-24E7-4D50-A75E-A7AA9F49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8A019-E671-460F-A71C-FB8DC53C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913E1-EECE-4516-B32B-EE7F1A58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4540-A2A0-48ED-B036-A76CD46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384F-3914-418E-9285-9AD67E3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A1BAE-6FC0-437B-8827-4E04082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8F941-A394-407A-B4E4-D143988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02DAD-0C82-4276-B578-6B8E2B01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3EE-CB5D-415B-AEE5-11372AF3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3F9E4-3714-4892-8E8E-FBD490D1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6A256-5B2C-497D-A2CB-85434647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A22D6-A7BE-45A3-BB43-23176340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F8D5A-8ECD-40E4-9A3D-30F1CC27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CD0AA-BDD9-410F-A1F7-5265AA9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2A7CD-0902-4F92-806C-49CE3E0B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8D65F-5CA5-4BBA-A313-58158F2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A9861-BB21-4C3D-855E-F52E503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E49D9-323F-4A92-ADFF-2587580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7A474-A262-49A9-B295-F70B262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4A7C-608B-486D-B226-F892336B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FED6E-E18D-4977-B26E-C85EC3BD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7C962-38DC-44C7-8C40-89AE1B29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924D2-D904-406C-8663-D5D2F37B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BA1C5-3B32-4C86-ADFA-2DD036EA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A0795-73B0-4D3F-A17C-AA725879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C5A11-6F02-4FF9-BF33-74E28A9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17BD6-7288-4774-B889-A8136761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F2600-1874-4F20-AB89-819686F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06E22-444A-4FBA-94BB-564BBBA2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70B00-907F-440B-955D-C8683247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A22B-1862-4688-BEBD-709E186F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40A0A-B130-4E1C-9D1F-434EA9A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08CB9-319C-4C54-B6D0-84BE58D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E054B-2129-4B54-A7B4-0E82452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6996B-623E-4FFE-BEE0-C988713D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A096F-1D79-4129-81E1-D3DBD4F7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1429F-5D89-47DE-8918-EA85C077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7DD03-6EB3-4F3A-BAC4-E0F5C17C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6074D-4D8C-4606-9DCA-3455803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A234D-631C-4627-99BB-7622739A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79F1C-D657-4ABF-82AB-76EFE85C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53F-69CA-41EC-A448-AE685A60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54E54-819F-4B73-AD80-1079D95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7EE24-7457-403E-A5AE-BF04CC7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348FD-9410-4172-8583-430E06C8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CD432-10F2-4F0F-B30F-6492748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DCD61-9A5C-4F9A-B70E-03D06A7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DF3EC-6B8A-486A-AB9A-EAAE69B3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16E46-BCC1-4F7E-A9AE-096D4642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B98AD-3404-4D6A-BD4D-0CB72D63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7BA53-E50C-4E83-BB96-01CF9DB0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3C35B-B1FA-4AD7-96C9-A0EAD93F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D3A2-10E2-44F8-A61C-AF32DFC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2305C-B1C1-4FC3-BE9B-76A88BA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04E7D-62FA-4B5C-9431-52448337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E33DB-94D1-4811-8553-FBBDBA3C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23AE3-23F0-4601-B282-476AFD4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0B537-A0BB-4F70-A5A5-A986209A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DF029-D046-4E4F-89CA-4AD3A27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5296C-EF08-48B2-920A-B58BF2F3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90CD3-82A4-4788-AE7E-695FFA5B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E7257-9C27-474D-979B-07023B98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CE7D0-7678-4C33-9CCC-C64B2C8C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EB8F-EC00-4A04-80A2-A925F0E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4632C-8A5D-4639-BE9B-5D9CE68F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B06A1-6D84-47F4-A010-705C43C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DEA2C-35C1-4C20-83DB-6D923C3E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62CB9-7CD1-4EB2-81B9-92E78FFE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28EA7-483A-4A92-8FD8-4847F7D7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000AA-9CBC-4D9B-908C-BDB36DF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F3702-1085-44BD-B7C4-938FF7D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2D127-C45F-415C-BEC7-A5E4D978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86E48-E2E7-4C13-B45E-CB3C82C8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16E6A-D4CB-4308-AC92-0657E1C4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E2E4-AA7B-4A6C-9592-98EBA4D4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51661-2D15-497D-9776-FEF8CFFD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FF7E4-CF6F-49F3-8FB6-231DABB1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D6F2E-49D3-4793-8AB7-C9C6FAFF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D5398-E624-46E0-A1D2-8E4EA8F3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DA986-8A6D-4B1E-9BCA-9A9099A3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641C1-F0F0-48ED-A076-F80463B2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18051-F368-48C5-9AC5-F7A3C6C6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522AD-5226-4CD0-ACB2-C6D9C16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8A8A2-CD47-49A3-A32D-58473231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7B50E-0B69-4A34-B44C-A618701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3A6-38A5-420D-AE42-BD23255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90680-9686-479E-8E4D-BC74F03D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72680-0075-4E38-9261-CC7B0900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A8CC1-6CBA-45D0-BB0B-5911580E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F33B2-6D22-452B-8FCA-77A15201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B5F13-C105-47DE-82A4-BC5F2B9D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5A2C7-8854-4065-AA58-5CCD3992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FF6A1-5D43-4E9E-9360-7AE45134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95F0B-2C99-49F0-8D33-D2255663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AB3E0-2463-4952-A7B4-FA919503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F535B-22B6-434F-B67E-4EE4020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61B-4B7E-44BD-B6F8-F9E2E562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0C4-42AE-431F-BA19-0F3D585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61B06-F4E0-4026-9718-3DE614C6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2F34C-A153-45F3-8DB1-F94E6F2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FA407-A654-407F-A07E-F4885D84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1AAE0-84B9-40B3-812E-1F7AA608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83C8F-2FA5-4FDF-A480-155E702A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7039E-679F-4287-9D82-0BE32BBE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DB4F7-BE5A-47E4-8463-FE485695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F381D-76F2-46C4-8BF9-D7A4944F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CFC14-22D6-44E2-9875-7433942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7178B1-3B52-42F2-BAA1-19ED3FB4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B2FE-CB61-40D1-97D7-B97E91D0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8A7FF-E2C6-42CA-A482-AFA9958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D3075-C8EA-4D07-9E8E-6D07A6D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6C1FB-6A17-489B-9377-7406E71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C309D-6F8F-41A0-A0E4-CBC84C0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AF6D4-59F7-444B-871D-A4D7B7DC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1FF08-4475-4008-96B2-99A9116E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15F92-8C7F-4A5B-9C62-F98852D2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3E421-C309-4D7B-8AF1-F83106A3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C8F66-03CF-4B04-945B-C33A8BB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9C966-BB2D-48B4-A4E4-4F14CF6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AB19-0B1A-4E91-ABEE-267E18FB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B4090-D955-473B-A70A-DC7E28AC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CB283-B711-4F8D-B640-6F8BAD93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C7DBE-2BF0-44BD-AB3C-D60F1CB1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CABED-09E8-4755-B082-3D1DE41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E74E5-D640-4973-91F0-8166030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54129-AFF1-4024-AD95-8620147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71339-8D1C-4C12-A454-C84AE6A2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607D9F-FDC9-4B04-B44F-5BF4E7FC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17E61-628E-4AFE-82FE-245C730C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0C34D-C04A-41C2-9615-4E83C3A4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D87D-7F56-41E0-8738-01AB73DA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E5B48-DCB1-4C99-8FFF-5C2F388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D55E7-C29F-45BC-8988-99970285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506BC-61C5-4EA8-B5A5-4D64B9BC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44AC5A-C5D0-4B95-B0C2-17817FA0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9CFB6-DF8B-4D84-A847-4BDF8F9F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13E40-4A72-44DF-AF35-F95FFE9F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A5FDF-563D-4DC0-860C-E3C6916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C24D6-DF60-4FF2-B8D8-73B4320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2D798-87C0-4D55-BE2E-3FFD57A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3DCB1-10FC-4FF8-A4DD-5B5CC3B2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89B6-4599-4F20-846F-9E8AC881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42121-0493-4646-A50D-37C3E1EE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2C2E5-DC4C-4EAF-8953-E603D1EF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C6146-957D-4B8D-9A4D-C3AB827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B3B64-F4AB-477F-AB3F-F69F98DE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937FA9-A89A-4DA6-BF5C-4CBE2B4C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43D8D-D6D1-40AA-86B8-4EF2698C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72616-B28E-41E1-9FDF-BE043F65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38B64-3EEA-4FA1-9375-8B255969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9ECA8-0B14-490A-BCA4-0F0F8B9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5E3302-5531-4148-9F11-A44EEC47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78B1-D8C0-4348-A383-82DD7D97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FE8805-980C-4088-B28E-26260564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E66D8-78E5-4FAB-B517-6D13B85E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344DE-4FF3-4B27-9B78-490D6B3F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4789-33ED-4180-9926-515DC12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8786-E05A-47E4-A8F7-781A7895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0C3F-459E-4CE2-BF15-F2D01EAD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9312-49A3-475B-B1AA-C84618E4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D30-8675-4B48-8020-9E93405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5D44-261D-4613-922E-C91CBDE3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63F5-DBAD-441F-8D80-64A7A95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6CC7-720F-4B18-894B-3B2DFE6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448B-9806-496F-8529-CA40E0D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A531-6574-478E-96D7-432290CE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E04F-867D-47AA-88AE-1BFD0A8D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2902-0382-46CE-BF22-51824CFD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C3FC-7086-41CC-81EC-2AF6A92F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760A-010C-450A-8FB4-0839FD8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F786-CFDB-4F1E-9FA7-C75C48B4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F3E-0342-447A-9B27-4D593911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DCB7-7120-48BE-9C79-E98E12D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2CFD-E34B-4950-9DAE-92EBAFBA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B10F-FCA0-4750-A9DE-602EAACF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857C-15BB-47E1-9793-081B19F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9F9A-5B81-47EB-9133-06CFA0B6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CA27E-2389-41FF-9B77-CD0C26B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40280-5F88-4880-987C-7C19E6A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225F7-B866-435E-8FBE-55C0534C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D318-5B92-4688-8DE4-A1067A26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3FE6-3C2C-468B-9185-87BC77A5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515-FD36-47CD-B0F8-EC8B617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7B42-7DDC-4307-9168-2640FD3D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A85F-203E-4CE0-A1A9-9D66B1D4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332E-E993-4282-95AD-40DC909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174C-FA1B-44C1-A436-BCD51BB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DDD63-A2C4-4316-9937-32A2A3E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7BEC-A840-4CF4-B1D1-C845F38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3B08-115A-4476-81A8-2A38158E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F5D04-2682-4408-B16D-CDA48D7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BE28-C68B-4540-B966-29C50618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8DA51-EAAA-4FB4-AF10-E0F688B0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4E6-8A14-408D-978C-DF6A0E47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81EF-70B4-4AC4-916F-7A980791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4C2C-5A2E-4AEB-815C-724FCB60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8BD7-EC02-44F2-8B1D-2370D5C2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C835-B9E5-4148-96C3-EC830CF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D108E-AF05-48E5-BEE8-388F6C24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9C93-2EBF-4FAF-9426-8CF53579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11EA5-0FE4-44EA-90F7-571C5F2A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C087C-79F3-4D69-B9FC-4DDA0A74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998DA-05CE-4B27-AAC7-A349687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4B710-4FA0-4C86-8E29-628E3C3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94F-5B17-4952-8632-0DDFA1E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58ECF-D540-4E4A-A8BE-A6D226FF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1907-A983-4A89-A3F5-A79079D5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57B8-6072-4FA2-8544-115431AB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9491-F342-409B-85CD-BB3ED09F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94758-5652-4677-AD09-F86D0EC9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FCF05-1789-4363-A319-973A5B5F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4323-E9A7-437C-B01F-6C343F22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DCE7-F578-4F27-878E-8FCF5AE6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BF3C-FE55-4953-8B6E-7DEE0269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F1E8-A6FE-48B3-8110-9125184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38B-A49A-45F1-B74B-B0A0F36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1E79-BD33-4A03-9BFD-1C58D53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81676-EAA0-4271-A601-9E04C40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B3C1-E72A-4962-AACF-CC9602BC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9896-B19E-4A2D-A1E2-B02CEAE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2FB2-F888-4AD8-A0D4-4752829F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3364-8B92-4812-B4C2-A230EE81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AE7DE-6861-45F8-97F2-2EBF3124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E2C49-EBF6-40F8-ADA9-993EE79C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4B3E-1982-4987-8559-47D9F334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B8F3A-E340-4AE9-876E-FAC0771D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701-8CA0-41CE-85FF-A238AF76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BE575-F7FD-4BEC-8530-35AA6CB1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D5519-2A11-4225-BA62-C5BC8FD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FB33-ED6B-494F-A37B-BA13063D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F755-996D-423B-B7AA-648DECF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AE24-A4EC-405D-9B93-31B79005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34FFC-65E9-4680-9496-D1A6F453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7961-A7CD-48BE-B923-29B49143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9B477-E090-4D07-B841-FAB18A57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F8A91-9C77-4385-9D15-6C413A1B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8FBB3-0D32-4DDA-93F0-49A6F115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101-8D8C-45B8-83B5-7AE48D1A2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53D2-8BAF-4BC9-87E6-14CC25994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1FDC-22AE-4470-AB46-43E4F4900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8115-F84F-41A8-8404-FDED5D3BA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E42F-7FC2-4CC7-B74A-F3D1F6EB1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645-FB28-420A-8726-048897EBA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636-9FE7-4F60-B86F-2FDE495E9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6AC1-CA31-42CE-9CEA-2DDCB5F7C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A3CA-9BAC-4996-B4FD-3653F3AF0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0F13-3F53-463F-A414-52DE8C9DA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A716-F41B-4068-8F51-CB60F4967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72B6-2D07-4496-8EC2-1EF96B224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5E2A-A7E9-49F3-929B-7F9FB25BC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8168-AD44-4352-938F-334F2FCC5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F192-5362-4712-8635-41D11DAAA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907C-A94F-4620-9F79-CCA0A293F7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897E-6D71-4C59-B36E-B558F6147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B592-B18A-4537-AB91-9A9BC6E07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BDAD-7C5F-4D71-BB9A-5DF13D005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BAA3-22DE-40B5-896A-19A026FDD8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6303-79BA-4F12-93D0-5943C281A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A309-1321-4CD8-B772-3F9776B88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7E68-1C5E-44C5-8C5D-D5D01370F7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CF0-710C-465E-BB73-499F628B2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7DC6-7A0B-4624-ABC6-4A07CD189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3C4F-D0F5-4750-B3CC-0F19D055E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5D62-B675-4E67-A836-E17FD3B084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A6E-4493-4AE3-9474-975076633A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9E7-111B-45F7-8E41-6EF45FC1A4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9DF-7959-46E2-8CD8-AC2CE05BF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60F-0AA3-4A56-AB9C-B8172660C0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A71B-61DC-464E-84DE-4D8FE3B7E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F4E6-F49D-4CD2-AA22-F51D8FFD70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4C8F-5A36-4E39-8194-43872CC12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1C1F-CF03-4DC0-A73D-328FBFBDCF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D0A9-A47B-4007-AD5A-08B8C45230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70B-508B-4FBA-8595-03771D91A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7966-CD10-45C8-A3CE-6ED50BB75A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6DE-176E-4A76-B442-74BE69134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3F84-D1E7-4EC0-9B7E-025736478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480" y="2324160"/>
            <a:ext cx="907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8715600" cy="120024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9634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201080" cy="20098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064280" y="1989000"/>
            <a:ext cx="82080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702320" y="2608200"/>
            <a:ext cx="5904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394400" y="2637000"/>
            <a:ext cx="9939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226836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480204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7913520" y="4221000"/>
            <a:ext cx="105120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2109960" y="48974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4643280" y="491184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740720" y="491184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554040"/>
            <a:ext cx="8601120" cy="6114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219640" y="1512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020000" y="151272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164360" y="23050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19640" y="31129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948360" y="308304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92720" y="465300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03280" y="541656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364000" y="544500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258920" y="6194520"/>
            <a:ext cx="35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571680" y="1162080"/>
            <a:ext cx="8001000" cy="4533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443640" y="12254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27672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23600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4067280" y="27957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3635280" y="35877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2050920" y="5084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3995640" y="50990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314280" y="847800"/>
            <a:ext cx="8515440" cy="5162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18728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187280" y="50418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36400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364000" y="504180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533520" y="2071800"/>
            <a:ext cx="8076960" cy="2714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14400" y="352908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076720" y="28954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34160" cy="4286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66764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667640" y="26938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667640" y="4437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669080" y="5070600"/>
            <a:ext cx="64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271440" y="914400"/>
            <a:ext cx="8601120" cy="5029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233880" y="3213000"/>
            <a:ext cx="431640" cy="335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5883120" y="3213000"/>
            <a:ext cx="432000" cy="335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276720" y="5416560"/>
            <a:ext cx="431640" cy="334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056280" y="5430960"/>
            <a:ext cx="432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738360" y="2381400"/>
            <a:ext cx="7667280" cy="20952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503280" cy="390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5781600" y="3933720"/>
            <a:ext cx="5032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262080" y="787320"/>
            <a:ext cx="8619840" cy="5867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900000" y="6221520"/>
            <a:ext cx="453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9:2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